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1314113" cy="8002588"/>
  <p:notesSz cx="9144000" cy="6858000"/>
  <p:custShowLst>
    <p:custShow name="Presentazione1" id="0">
      <p:sldLst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66ff"/>
                </a:solidFill>
                <a:latin typeface="Arial Rounded MT Bol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3366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66ff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39960" y="533520"/>
            <a:ext cx="366408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3366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66ff"/>
                </a:solidFill>
                <a:latin typeface="Arial Rounded MT Bol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4771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3366ff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7EC6-5571-4A48-8708-E42932DB654D}" type="slidenum">
              <a:rPr b="1" lang="it-IT" sz="1200" spc="-1" strike="noStrike">
                <a:solidFill>
                  <a:srgbClr val="3366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739960" y="533520"/>
            <a:ext cx="3664080" cy="25905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19320" y="3276720"/>
            <a:ext cx="6705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30B-2B05-41A5-AE76-8553DA59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9617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4818600"/>
            <a:ext cx="9617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004-5F96-47B4-82B8-2FA01A6E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CDC-FB64-42E9-80A3-0236F8F7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23112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23112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48186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48186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48186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73D-F303-45B4-A7C4-A1AE2797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2311200"/>
            <a:ext cx="9617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840-93ED-4B2B-A391-5A682428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9617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798-D07C-4885-BBC6-ACEF68AF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810-82C6-4B75-8477-80957F62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DA2-7566-414F-8DB5-9219A6EC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32D-4043-458B-AB58-873D8FFA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90E-2F76-46A1-BB66-32C1E2FF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77A-5BA3-4E1A-86C5-39CDCAD7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4818600"/>
            <a:ext cx="9617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F0C-FEA4-44B8-A60E-7E691465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2311200"/>
            <a:ext cx="9617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393480" indent="-39348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32688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0400" indent="-26208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244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8720" indent="-26064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8720" indent="-26064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8720" indent="-26064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7289640"/>
            <a:ext cx="235764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7289640"/>
            <a:ext cx="358452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7289640"/>
            <a:ext cx="235728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268F1D11-8A55-4A69-8F04-258D6DC8F186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1857240" cy="39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9" name=""/>
          <p:cNvSpPr txBox="1"/>
          <p:nvPr/>
        </p:nvSpPr>
        <p:spPr>
          <a:xfrm rot="9355200">
            <a:off x="9753480" y="2361960"/>
            <a:ext cx="11844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7575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7575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 rot="4503600">
            <a:off x="8699400" y="4101840"/>
            <a:ext cx="311796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7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 rot="5400000">
            <a:off x="8173080" y="6914160"/>
            <a:ext cx="817560" cy="704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+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763120" y="4267080"/>
            <a:ext cx="84276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8</a:t>
            </a:r>
            <a:endParaRPr b="0" lang="en-US" sz="6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067680" y="5943600"/>
            <a:ext cx="122400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4</a:t>
            </a:r>
            <a:endParaRPr b="0" i="1" lang="en-US" sz="2400" spc="1" strike="noStrike">
              <a:ln w="936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9258120" y="4533840"/>
            <a:ext cx="14479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66ff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:</a:t>
            </a:r>
            <a:endParaRPr b="0" lang="en-US" sz="5400" spc="1" strike="noStrike">
              <a:ln w="12600">
                <a:solidFill>
                  <a:srgbClr val="c4b596"/>
                </a:solidFill>
                <a:miter/>
              </a:ln>
              <a:solidFill>
                <a:srgbClr val="66ff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 rot="19798200">
            <a:off x="2057400" y="6781680"/>
            <a:ext cx="762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x</a:t>
            </a:r>
            <a:endParaRPr b="0" lang="en-US" sz="2400" spc="1" strike="noStrike">
              <a:ln w="0">
                <a:noFill/>
              </a:ln>
              <a:solidFill>
                <a:srgbClr val="3333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 rot="711600">
            <a:off x="3504960" y="5943600"/>
            <a:ext cx="4495680" cy="1681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1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2971800" y="2743200"/>
            <a:ext cx="49528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339966"/>
                </a:solidFill>
                <a:uFillTx/>
                <a:latin typeface="Arial Narrow"/>
              </a:rPr>
              <a:t>NOZIONI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Arial Narrow"/>
              </a:rPr>
              <a:t>   </a:t>
            </a:r>
            <a:r>
              <a:rPr b="1" lang="en-US" sz="7200" spc="-1" strike="noStrike" u="sng">
                <a:solidFill>
                  <a:srgbClr val="3333ff"/>
                </a:solidFill>
                <a:uFillTx/>
                <a:latin typeface="Arial Narrow"/>
              </a:rPr>
              <a:t>DI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Arial Narrow"/>
              </a:rPr>
              <a:t>   </a:t>
            </a:r>
            <a:r>
              <a:rPr b="1" lang="en-US" sz="7200" spc="-1" strike="noStrike" u="sng">
                <a:solidFill>
                  <a:srgbClr val="ff0066"/>
                </a:solidFill>
                <a:uFillTx/>
                <a:latin typeface="Arial Narrow"/>
              </a:rPr>
              <a:t>CALCOL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 rot="718800">
            <a:off x="7619760" y="990360"/>
            <a:ext cx="2743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ff3300"/>
                    </a:gs>
                  </a:gsLst>
                  <a:lin ang="8100000"/>
                </a:gradFill>
                <a:latin typeface="Arial Black"/>
              </a:rPr>
              <a:t>Km / o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ff3300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685800"/>
            <a:ext cx="12189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5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76212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66ff"/>
                </a:solidFill>
                <a:latin typeface="Arial Rounded MT Bold"/>
              </a:rPr>
              <a:t>%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 rot="2904000">
            <a:off x="3200040" y="762120"/>
            <a:ext cx="1295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64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2</a:t>
            </a:r>
            <a:endParaRPr b="0" lang="en-US" sz="6000" spc="1" strike="noStrike">
              <a:ln w="64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ransition spd="slow" advTm="2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9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500"/>
                            </p:stCondLst>
                            <p:childTnLst>
                              <p:par>
                                <p:cTn id="7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2700"/>
                            </p:stCondLst>
                            <p:childTnLst>
                              <p:par>
                                <p:cTn id="7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43400" y="8380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DIVIS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70020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: : : : :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848720" y="6858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: : : : :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1676520"/>
            <a:ext cx="41148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16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34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cc33"/>
                </a:solidFill>
                <a:latin typeface="Arial Rounded MT Bold"/>
              </a:rPr>
              <a:t>21</a:t>
            </a:r>
            <a:r>
              <a:rPr b="1" lang="en-US" sz="36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:  4 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320" y="3519360"/>
            <a:ext cx="4267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34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x     60  =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   </a:t>
            </a:r>
            <a:r>
              <a:rPr b="1" lang="en-US" sz="2800" spc="-1" strike="noStrike">
                <a:solidFill>
                  <a:srgbClr val="339933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2040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28800" y="5257800"/>
            <a:ext cx="2057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14600" y="5576760"/>
            <a:ext cx="1905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59661 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29000" y="6324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4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70102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14600" y="7162920"/>
            <a:ext cx="1523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14917 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433760"/>
            <a:ext cx="4419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16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x  3600  =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 57600 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2590920"/>
            <a:ext cx="0" cy="5410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72200" y="2743200"/>
            <a:ext cx="167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14 917  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4680" y="2743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29600" y="2743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3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3429000"/>
            <a:ext cx="289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773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4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29400" y="3505320"/>
            <a:ext cx="1066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517 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01000" y="51055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05920" y="5105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579132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153280" y="5867280"/>
            <a:ext cx="1067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8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10280" y="5867280"/>
            <a:ext cx="914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37 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81680" y="5105520"/>
            <a:ext cx="1067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517 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1676520"/>
            <a:ext cx="28958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04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08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cc33"/>
                </a:solidFill>
                <a:latin typeface="Arial Rounded MT Bold"/>
              </a:rPr>
              <a:t>37</a:t>
            </a:r>
            <a:r>
              <a:rPr b="1" lang="en-US" sz="36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2514600"/>
            <a:ext cx="1371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21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7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7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450"/>
                            </p:stCondLst>
                            <p:childTnLst>
                              <p:par>
                                <p:cTn id="96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950"/>
                            </p:stCondLst>
                            <p:childTnLst>
                              <p:par>
                                <p:cTn id="9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75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2" dur="75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750"/>
                            </p:stCondLst>
                            <p:childTnLst>
                              <p:par>
                                <p:cTn id="1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838080"/>
            <a:ext cx="1078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LE  OPERAZIONI  CON  IL  CALCOLAT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2286000"/>
            <a:ext cx="922032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L  CALCOLATORE  DEVE  ESSERE  IDONEO  PER  LE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CONVERSIONI   SESSAGESIMALI  A  CENTESIM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3200400"/>
            <a:ext cx="1371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3352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D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4267080"/>
            <a:ext cx="1082016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*  IMPOSTARE 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ORE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, 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PRIMI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E  </a:t>
            </a:r>
            <a:r>
              <a:rPr b="1" lang="en-US" sz="2400" spc="-1" strike="noStrike">
                <a:solidFill>
                  <a:srgbClr val="33cc33"/>
                </a:solidFill>
                <a:latin typeface="Arial Rounded MT Bold"/>
              </a:rPr>
              <a:t>SECONDI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18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34</a:t>
            </a:r>
            <a:r>
              <a:rPr b="1" lang="en-US" sz="24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400" spc="-1" strike="noStrike">
                <a:solidFill>
                  <a:srgbClr val="33cc33"/>
                </a:solidFill>
                <a:latin typeface="Arial Rounded MT Bold"/>
              </a:rPr>
              <a:t>18</a:t>
            </a:r>
            <a:r>
              <a:rPr b="1" lang="en-US" sz="24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, </a:t>
            </a:r>
            <a:r>
              <a:rPr b="1" lang="en-US" sz="2400" spc="-1" strike="noStrike">
                <a:solidFill>
                  <a:srgbClr val="ff00ff"/>
                </a:solidFill>
                <a:latin typeface="Arial Rounded MT Bold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*  CONVERTIRE  IN  ORE  CENTESIMALI        DMS   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18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,571705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*  ESEGUIRE  L’OPERAZIONE  MATEMATICA      x 3   = 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55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,71511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*  RICONVERTIRE  IL  RISULTATO  IN  SESSAGESI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2ndF       DMS        =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55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Rounded MT Bold"/>
              </a:rPr>
              <a:t>42</a:t>
            </a:r>
            <a:r>
              <a:rPr b="1" lang="en-US" sz="32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200" spc="-1" strike="noStrike" baseline="6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 Rounded MT Bold"/>
              </a:rPr>
              <a:t>54</a:t>
            </a:r>
            <a:r>
              <a:rPr b="1" lang="en-US" sz="32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00ff"/>
                </a:solidFill>
                <a:latin typeface="Arial Rounded MT Bold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800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525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2468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6629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5480" y="6629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7086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95480" y="7086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33920" y="6629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6629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6629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6629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1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3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3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3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3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3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3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3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3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3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3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2700"/>
                            </p:stCondLst>
                            <p:childTnLst>
                              <p:par>
                                <p:cTn id="1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8120" y="82224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ARROTONDAME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2133720"/>
            <a:ext cx="63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PER  DIFETTO ( TRONCAMENT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895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PER  EC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36576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MATEMA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2286000"/>
            <a:ext cx="457200" cy="1828800"/>
          </a:xfrm>
          <a:custGeom>
            <a:avLst/>
            <a:gdLst>
              <a:gd name="textAreaLeft" fmla="*/ 0 w 457200"/>
              <a:gd name="textAreaRight" fmla="*/ 16488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1520" y="2209680"/>
            <a:ext cx="392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pecificare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sem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  quale  cifra  bisog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arrotond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638680"/>
            <a:ext cx="4267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08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 Rounded MT Bold"/>
              </a:rPr>
              <a:t>h </a:t>
            </a:r>
            <a:r>
              <a:rPr b="1" lang="en-US" sz="4000" spc="-1" strike="noStrike">
                <a:solidFill>
                  <a:srgbClr val="3333cc"/>
                </a:solidFill>
                <a:latin typeface="Arial Rounded MT Bold"/>
              </a:rPr>
              <a:t>32</a:t>
            </a:r>
            <a:r>
              <a:rPr b="1" lang="en-US" sz="40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  </a:t>
            </a:r>
            <a:r>
              <a:rPr b="1" lang="en-US" sz="4000" spc="-1" strike="noStrike">
                <a:solidFill>
                  <a:srgbClr val="33cc33"/>
                </a:solidFill>
                <a:latin typeface="Arial Rounded MT Bold"/>
              </a:rPr>
              <a:t>18</a:t>
            </a:r>
            <a:r>
              <a:rPr b="1" lang="en-US" sz="40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Arial Rounded MT Bold"/>
              </a:rPr>
              <a:t>3</a:t>
            </a:r>
            <a:r>
              <a:rPr b="1" lang="en-US" sz="4000" spc="-1" strike="noStrike">
                <a:solidFill>
                  <a:srgbClr val="0099ff"/>
                </a:solidFill>
                <a:latin typeface="Arial Rounded MT Bold"/>
              </a:rPr>
              <a:t>9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6629400"/>
            <a:ext cx="4267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08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 Rounded MT Bold"/>
              </a:rPr>
              <a:t>h </a:t>
            </a:r>
            <a:r>
              <a:rPr b="1" lang="en-US" sz="4000" spc="-1" strike="noStrike">
                <a:solidFill>
                  <a:srgbClr val="3333cc"/>
                </a:solidFill>
                <a:latin typeface="Arial Rounded MT Bold"/>
              </a:rPr>
              <a:t>32</a:t>
            </a:r>
            <a:r>
              <a:rPr b="1" lang="en-US" sz="40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  </a:t>
            </a:r>
            <a:r>
              <a:rPr b="1" lang="en-US" sz="4000" spc="-1" strike="noStrike">
                <a:solidFill>
                  <a:srgbClr val="33cc33"/>
                </a:solidFill>
                <a:latin typeface="Arial Rounded MT Bold"/>
              </a:rPr>
              <a:t>18</a:t>
            </a:r>
            <a:r>
              <a:rPr b="1" lang="en-US" sz="40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r>
              <a:rPr b="1" lang="en-US" sz="4000" spc="-1" strike="noStrike">
                <a:solidFill>
                  <a:srgbClr val="0099ff"/>
                </a:solidFill>
                <a:latin typeface="Arial Rounded MT Bold"/>
              </a:rPr>
              <a:t>9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0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62320" y="76212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MISURA  DI  LUNGHEZ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191916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METRICO  DECI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62920" y="1919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INGL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86400" y="1523880"/>
            <a:ext cx="0" cy="647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743200"/>
            <a:ext cx="525780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CHILOMETRO      ( K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METRO                   ( m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CENTIMETRO       ( c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MILLIMETRO         ( m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91320" y="2743200"/>
            <a:ext cx="533376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MIGLIO  TERR.   ( 1609,34 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YARDS                  ( 0.9144  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FEET                      ( 0,3048  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INCHES                 ( 0,0254  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MIGLIO  MAR.      (  1852     m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5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14800" y="6858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FORM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2133720"/>
            <a:ext cx="380988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VELOCITA’   MEDIA 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Km / 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2520" y="23623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1600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PAZIO  ( Km ) x 360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27432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TEMPO  ( Second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58128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42670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TEMPO  (SECONDI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44956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3733920"/>
            <a:ext cx="37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PAZIO  ( Km )  x  360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86200" y="4876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VELOCITA’  MEDIA (Km/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6324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SPAZIO ( Km 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586728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73760" y="6377040"/>
            <a:ext cx="51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x   VELOCITA’  MEDIA( Km / ora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72400" y="1752480"/>
            <a:ext cx="3200400" cy="135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MIGLIO  MAR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NODO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0" y="22860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467480" y="15238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05320" y="6629400"/>
            <a:ext cx="2141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6781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3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5943600"/>
            <a:ext cx="25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TEMPO ( Se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0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3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4680" y="685800"/>
            <a:ext cx="102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Rounded MT Bold"/>
              </a:rPr>
              <a:t>ASPIRANTI  CRONOMETRISTI  !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360" y="2438280"/>
            <a:ext cx="10401120" cy="30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A  VOI  TUTTI  UN  SINCERO  AUGURIO  P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       </a:t>
            </a: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IL  SUPERAMENTO  DEGLI  ESAMI  CHE  V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         </a:t>
            </a: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PERMETTERANNO    DI  ENTRARE  A  F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        </a:t>
            </a: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PARTE  DELLA  “  GRANDE    FAMIGLIA  DE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                              </a:t>
            </a: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CRONOMETRISTI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016680"/>
            <a:ext cx="1131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1" i="1" lang="en-US" sz="40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i="1" lang="en-US" sz="6600" spc="-1" strike="noStrike">
                <a:solidFill>
                  <a:srgbClr val="ff3300"/>
                </a:solidFill>
                <a:latin typeface="Arial Rounded MT Bold"/>
              </a:rPr>
              <a:t>IN  BOCCA  AL  LUP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75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75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975"/>
                            </p:stCondLst>
                            <p:childTnLst>
                              <p:par>
                                <p:cTn id="1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57200"/>
            <a:ext cx="113158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IL  MINUTO</a:t>
            </a: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     </a:t>
            </a:r>
            <a:r>
              <a:rPr b="1" lang="en-US" sz="3200" spc="-1" strike="noStrike">
                <a:solidFill>
                  <a:srgbClr val="33cc33"/>
                </a:solidFill>
                <a:latin typeface="Arial Rounded MT Bold"/>
              </a:rPr>
              <a:t>  </a:t>
            </a:r>
            <a:r>
              <a:rPr b="1" lang="en-US" sz="3200" spc="-1" strike="noStrike" u="sng">
                <a:solidFill>
                  <a:srgbClr val="33cc33"/>
                </a:solidFill>
                <a:uFillTx/>
                <a:latin typeface="Arial Rounded MT Bold"/>
              </a:rPr>
              <a:t> </a:t>
            </a:r>
            <a:r>
              <a:rPr b="1" lang="en-US" sz="4000" spc="-1" strike="noStrike" u="sng">
                <a:solidFill>
                  <a:srgbClr val="33cc33"/>
                </a:solidFill>
                <a:uFillTx/>
                <a:latin typeface="Arial Rounded MT Bold"/>
              </a:rPr>
              <a:t>SECONDO 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(</a:t>
            </a:r>
            <a:r>
              <a:rPr b="1" lang="en-US" sz="4000" spc="-1" strike="noStrike" baseline="30000">
                <a:solidFill>
                  <a:srgbClr val="33cc33"/>
                </a:solidFill>
                <a:latin typeface="Arial Rounded MT Bold"/>
              </a:rPr>
              <a:t> </a:t>
            </a:r>
            <a:r>
              <a:rPr b="1" lang="en-US" sz="6600" spc="-1" strike="noStrike" baseline="3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6600" spc="-1" strike="noStrike" baseline="3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4876920"/>
            <a:ext cx="90676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I  SOTTOMULTIPLI  DEL  SECONDO  SONO: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il </a:t>
            </a:r>
            <a:r>
              <a:rPr b="1" lang="en-US" sz="3200" spc="-1" strike="noStrike">
                <a:solidFill>
                  <a:srgbClr val="ff00ff"/>
                </a:solidFill>
                <a:latin typeface="Arial Rounded MT Bold"/>
              </a:rPr>
              <a:t> decimo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( </a:t>
            </a:r>
            <a:r>
              <a:rPr b="1" lang="en-US" sz="3200" spc="-1" strike="noStrike">
                <a:solidFill>
                  <a:srgbClr val="ff00ff"/>
                </a:solidFill>
                <a:latin typeface="Arial Rounded MT Bold"/>
              </a:rPr>
              <a:t>1/10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),   il  </a:t>
            </a: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centesimo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( </a:t>
            </a:r>
            <a:r>
              <a:rPr b="1" lang="en-US" sz="3200" spc="-1" strike="noStrike">
                <a:solidFill>
                  <a:srgbClr val="0099ff"/>
                </a:solidFill>
                <a:latin typeface="Arial Rounded MT Bold"/>
              </a:rPr>
              <a:t>1/100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il  millesimo  ( 1/1000 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438280"/>
            <a:ext cx="95252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I  MULTIPLI  DEL  SECONDO  SO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il  </a:t>
            </a:r>
            <a:r>
              <a:rPr b="1" lang="en-US" sz="3200" spc="-1" strike="noStrike">
                <a:solidFill>
                  <a:srgbClr val="3333cc"/>
                </a:solidFill>
                <a:latin typeface="Arial Rounded MT Bold"/>
              </a:rPr>
              <a:t>minuto  primo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( </a:t>
            </a:r>
            <a:r>
              <a:rPr b="1" lang="en-US" sz="6000" spc="-1" strike="noStrike" baseline="3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6000" spc="-1" strike="noStrike" baseline="3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)  equivalente  a  </a:t>
            </a:r>
            <a:r>
              <a:rPr b="1" lang="en-US" sz="3200" spc="-1" strike="noStrike">
                <a:solidFill>
                  <a:srgbClr val="33cc33"/>
                </a:solidFill>
                <a:latin typeface="Arial Rounded MT Bold"/>
              </a:rPr>
              <a:t>60 </a:t>
            </a:r>
            <a:r>
              <a:rPr b="1" lang="en-US" sz="6000" spc="-1" strike="noStrike" baseline="3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le  </a:t>
            </a: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ore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 (</a:t>
            </a: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5400" spc="-1" strike="noStrike" baseline="3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)  equivalenti  a  </a:t>
            </a:r>
            <a:r>
              <a:rPr b="1" lang="en-US" sz="3200" spc="-1" strike="noStrike">
                <a:solidFill>
                  <a:srgbClr val="33cc33"/>
                </a:solidFill>
                <a:latin typeface="Arial Rounded MT Bold"/>
              </a:rPr>
              <a:t>3600  </a:t>
            </a:r>
            <a:r>
              <a:rPr b="1" lang="en-US" sz="6000" spc="-1" strike="noStrike" baseline="30000">
                <a:solidFill>
                  <a:srgbClr val="33cc33"/>
                </a:solidFill>
                <a:latin typeface="Arial Rounded MT Bold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30000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133720"/>
            <a:ext cx="4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baseline="34000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117800">
            <a:off x="7613280" y="457344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MILLES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6699240" y="5263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 Rounded MT Bold"/>
              </a:rPr>
              <a:t>DEC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6744960" y="4989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 Rounded MT Bold"/>
              </a:rPr>
              <a:t>CENTES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 rot="5397000">
            <a:off x="4240800" y="4369320"/>
            <a:ext cx="817560" cy="3660480"/>
          </a:xfrm>
          <a:custGeom>
            <a:avLst/>
            <a:gdLst>
              <a:gd name="textAreaLeft" fmla="*/ 0 w 817560"/>
              <a:gd name="textAreaRight" fmla="*/ 295200 w 817560"/>
              <a:gd name="textAreaTop" fmla="*/ 95400 h 3660480"/>
              <a:gd name="textAreaBottom" fmla="*/ 3565080 h 366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19051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08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 Rounded MT Bold"/>
              </a:rPr>
              <a:t>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29040" y="162396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Rounded MT Bold"/>
              </a:rPr>
              <a:t>32</a:t>
            </a:r>
            <a:r>
              <a:rPr b="1" lang="en-US" sz="6000" spc="-1" strike="noStrike" baseline="50000">
                <a:solidFill>
                  <a:srgbClr val="3333cc"/>
                </a:solidFill>
                <a:latin typeface="Arial Rounded MT Bold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97400" y="162396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 Rounded MT Bold"/>
              </a:rPr>
              <a:t>48</a:t>
            </a:r>
            <a:r>
              <a:rPr b="1" lang="en-US" sz="6000" spc="-1" strike="noStrike" baseline="50000">
                <a:solidFill>
                  <a:srgbClr val="00cc99"/>
                </a:solidFill>
                <a:latin typeface="Arial Rounded MT Bold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19051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 Rounded MT Bold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24680" y="19051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838080"/>
            <a:ext cx="929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 Rounded MT Bold"/>
              </a:rPr>
              <a:t>SCRIVIAMO  CORRETTAMENTE  I  TEM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2743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15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 Rounded MT Bold"/>
              </a:rPr>
              <a:t>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29040" y="248760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Rounded MT Bold"/>
              </a:rPr>
              <a:t>06</a:t>
            </a:r>
            <a:r>
              <a:rPr b="1" lang="en-US" sz="6000" spc="-1" strike="noStrike" baseline="50000">
                <a:solidFill>
                  <a:srgbClr val="3333cc"/>
                </a:solidFill>
                <a:latin typeface="Arial Rounded MT Bold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97400" y="246204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 Rounded MT Bold"/>
              </a:rPr>
              <a:t>00</a:t>
            </a:r>
            <a:r>
              <a:rPr b="1" lang="en-US" sz="6000" spc="-1" strike="noStrike" baseline="50000">
                <a:solidFill>
                  <a:srgbClr val="00cc99"/>
                </a:solidFill>
                <a:latin typeface="Arial Rounded MT Bold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27432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Rounded MT Bold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7432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 Rounded MT Bold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35812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05</a:t>
            </a:r>
            <a:r>
              <a:rPr b="1" lang="en-US" sz="4000" spc="-1" strike="noStrike" baseline="30000">
                <a:solidFill>
                  <a:srgbClr val="ff3300"/>
                </a:solidFill>
                <a:latin typeface="Arial Rounded MT Bold"/>
              </a:rPr>
              <a:t>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02120" y="335268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Rounded MT Bold"/>
              </a:rPr>
              <a:t>00</a:t>
            </a:r>
            <a:r>
              <a:rPr b="1" lang="en-US" sz="6000" spc="-1" strike="noStrike" baseline="50000">
                <a:solidFill>
                  <a:srgbClr val="3333cc"/>
                </a:solidFill>
                <a:latin typeface="Arial Rounded MT Bold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97400" y="330048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 Rounded MT Bold"/>
              </a:rPr>
              <a:t>12</a:t>
            </a:r>
            <a:r>
              <a:rPr b="1" lang="en-US" sz="6000" spc="-1" strike="noStrike" baseline="50000">
                <a:solidFill>
                  <a:srgbClr val="00cc99"/>
                </a:solidFill>
                <a:latin typeface="Arial Rounded MT Bold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3581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2819520"/>
            <a:ext cx="4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baseline="34000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3581280"/>
            <a:ext cx="45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baseline="34000">
                <a:solidFill>
                  <a:srgbClr val="000000"/>
                </a:solidFill>
                <a:latin typeface="Arial Rounded MT Bold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 rot="5338200">
            <a:off x="7439400" y="5284800"/>
            <a:ext cx="817560" cy="1981080"/>
          </a:xfrm>
          <a:custGeom>
            <a:avLst/>
            <a:gdLst>
              <a:gd name="textAreaLeft" fmla="*/ 0 w 817560"/>
              <a:gd name="textAreaRight" fmla="*/ 295200 w 817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4419720"/>
            <a:ext cx="68580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419720"/>
            <a:ext cx="68580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4419720"/>
            <a:ext cx="68580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2971800"/>
            <a:ext cx="457200" cy="609480"/>
          </a:xfrm>
          <a:prstGeom prst="upArrow">
            <a:avLst>
              <a:gd name="adj1" fmla="val 50000"/>
              <a:gd name="adj2" fmla="val 333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3733920"/>
            <a:ext cx="457200" cy="609480"/>
          </a:xfrm>
          <a:prstGeom prst="upArrow">
            <a:avLst>
              <a:gd name="adj1" fmla="val 50000"/>
              <a:gd name="adj2" fmla="val 333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4419720"/>
            <a:ext cx="457200" cy="609480"/>
          </a:xfrm>
          <a:prstGeom prst="upArrow">
            <a:avLst>
              <a:gd name="adj1" fmla="val 50000"/>
              <a:gd name="adj2" fmla="val 3332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5181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 Rounded MT Bold"/>
              </a:rPr>
              <a:t>PR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 Rounded MT Bold"/>
              </a:rPr>
              <a:t>SECO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66294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SESSAGESIM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6629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DECIM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7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7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7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117800">
            <a:off x="9289440" y="33541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MILLES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7613640" y="35874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 Rounded MT Bold"/>
              </a:rPr>
              <a:t>DEC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7964280" y="3389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 Rounded MT Bold"/>
              </a:rPr>
              <a:t>CENTES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60948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 Rounded MT Bold"/>
              </a:rPr>
              <a:t>SCRIVIAMO  CORRETTAMENTE  I  TEM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 Rounded MT Bold"/>
              </a:rPr>
              <a:t>PR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2971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 Rounded MT Bold"/>
              </a:rPr>
              <a:t>SECO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3809880"/>
            <a:ext cx="304920" cy="2286000"/>
          </a:xfrm>
          <a:prstGeom prst="downArrow">
            <a:avLst>
              <a:gd name="adj1" fmla="val 50000"/>
              <a:gd name="adj2" fmla="val 18742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4800600"/>
            <a:ext cx="304920" cy="1219320"/>
          </a:xfrm>
          <a:prstGeom prst="downArrow">
            <a:avLst>
              <a:gd name="adj1" fmla="val 50000"/>
              <a:gd name="adj2" fmla="val 999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4191120"/>
            <a:ext cx="304560" cy="1981080"/>
          </a:xfrm>
          <a:prstGeom prst="downArrow">
            <a:avLst>
              <a:gd name="adj1" fmla="val 50000"/>
              <a:gd name="adj2" fmla="val 16261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6705720"/>
            <a:ext cx="2362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00 ….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6781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 Rounded MT Bold"/>
              </a:rPr>
              <a:t>00 … 5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58200" y="67057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 Rounded MT Bold"/>
              </a:rPr>
              <a:t>0…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915400" y="4800600"/>
            <a:ext cx="304920" cy="1295280"/>
          </a:xfrm>
          <a:prstGeom prst="downArrow">
            <a:avLst>
              <a:gd name="adj1" fmla="val 50000"/>
              <a:gd name="adj2" fmla="val 1061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829800" y="4800600"/>
            <a:ext cx="304920" cy="1295280"/>
          </a:xfrm>
          <a:prstGeom prst="downArrow">
            <a:avLst>
              <a:gd name="adj1" fmla="val 50000"/>
              <a:gd name="adj2" fmla="val 1061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10200">
            <a:off x="5027400" y="2057400"/>
            <a:ext cx="457200" cy="33526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6477120"/>
            <a:ext cx="457200" cy="380880"/>
          </a:xfrm>
          <a:custGeom>
            <a:avLst/>
            <a:gdLst>
              <a:gd name="textAreaLeft" fmla="*/ 188280 w 457200"/>
              <a:gd name="textAreaRight" fmla="*/ 268920 w 4572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523880"/>
            <a:ext cx="76176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1523880"/>
            <a:ext cx="76212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1523880"/>
            <a:ext cx="76212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1523880"/>
            <a:ext cx="76176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1523880"/>
            <a:ext cx="76176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523880"/>
            <a:ext cx="76212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1447920"/>
            <a:ext cx="76176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4520" y="1447920"/>
            <a:ext cx="76176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448920" y="1447920"/>
            <a:ext cx="76176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1600200"/>
            <a:ext cx="38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1600200"/>
            <a:ext cx="38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86600" y="1600200"/>
            <a:ext cx="38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2209680"/>
            <a:ext cx="7621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Impact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40200">
            <a:off x="6476760" y="3276720"/>
            <a:ext cx="6858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66"/>
                </a:solidFill>
                <a:latin typeface="Arial Rounded MT Bold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609480"/>
            <a:ext cx="6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Impact"/>
              </a:rPr>
              <a:t>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572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66ff"/>
                </a:solidFill>
                <a:latin typeface="Impact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 rot="21322200">
            <a:off x="3352320" y="1752120"/>
            <a:ext cx="1305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</a:rPr>
              <a:t>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34320" y="2133720"/>
            <a:ext cx="3919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33cc"/>
                    </a:gs>
                  </a:gsLst>
                  <a:lin ang="5400000"/>
                </a:gradFill>
                <a:latin typeface="Impact"/>
              </a:rPr>
              <a:t>OPERA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33cc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 rot="21490800">
            <a:off x="5105520" y="838080"/>
            <a:ext cx="1414440" cy="224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33cc"/>
                    </a:gs>
                  </a:gsLst>
                  <a:lin ang="5400000"/>
                </a:gradFill>
                <a:latin typeface="Arial Black"/>
              </a:rPr>
              <a:t>4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33c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4191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ADDI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5105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SOTTRA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MOLTIPLICA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67816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DIVIS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4343400"/>
            <a:ext cx="609480" cy="1371600"/>
          </a:xfrm>
          <a:custGeom>
            <a:avLst/>
            <a:gdLst>
              <a:gd name="textAreaLeft" fmla="*/ 0 w 609480"/>
              <a:gd name="textAreaRight" fmla="*/ 219960 w 6094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47242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Rounded MT Bold"/>
              </a:rPr>
              <a:t>Metodo  dire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688824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Rounded MT Bold"/>
              </a:rPr>
              <a:t>Metodo  indire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9436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Rounded MT Bold"/>
              </a:rPr>
              <a:t>Metodo diretto / indire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0"/>
                            </p:stCondLst>
                            <p:childTnLst>
                              <p:par>
                                <p:cTn id="42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500"/>
                            </p:stCondLst>
                            <p:childTnLst>
                              <p:par>
                                <p:cTn id="43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cc33"/>
                                </p:to>
                              </p:animCl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8380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ADDI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2209680"/>
            <a:ext cx="39625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01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18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cc66"/>
                </a:solidFill>
                <a:latin typeface="Arial Rounded MT Bold"/>
              </a:rPr>
              <a:t>28</a:t>
            </a:r>
            <a:r>
              <a:rPr b="1" lang="en-US" sz="36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5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4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971800"/>
            <a:ext cx="38102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03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06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 baseline="60000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cc66"/>
                </a:solidFill>
                <a:latin typeface="Arial Rounded MT Bold"/>
              </a:rPr>
              <a:t>12</a:t>
            </a:r>
            <a:r>
              <a:rPr b="1" lang="en-US" sz="36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3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1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73392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962520"/>
            <a:ext cx="37339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04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24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cc66"/>
                </a:solidFill>
                <a:latin typeface="Arial Rounded MT Bold"/>
              </a:rPr>
              <a:t>40</a:t>
            </a:r>
            <a:r>
              <a:rPr b="1" lang="en-US" sz="36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8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90720" y="5715000"/>
            <a:ext cx="1904760" cy="1779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019920" y="2514600"/>
            <a:ext cx="44193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14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48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cc33"/>
                </a:solidFill>
                <a:latin typeface="Arial Rounded MT Bold"/>
              </a:rPr>
              <a:t>55</a:t>
            </a:r>
            <a:r>
              <a:rPr b="1" lang="en-US" sz="36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6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9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3352680"/>
            <a:ext cx="44956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16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34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cc33"/>
                </a:solidFill>
                <a:latin typeface="Arial Rounded MT Bold"/>
              </a:rPr>
              <a:t>21</a:t>
            </a:r>
            <a:r>
              <a:rPr b="1" lang="en-US" sz="36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8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419112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4419720"/>
            <a:ext cx="4534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3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82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cc33"/>
                </a:solidFill>
                <a:latin typeface="Arial Rounded MT Bold"/>
              </a:rPr>
              <a:t>76</a:t>
            </a:r>
            <a:r>
              <a:rPr b="1" lang="en-US" sz="36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14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7010280"/>
            <a:ext cx="38862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31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23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cc99"/>
                </a:solidFill>
                <a:latin typeface="Arial Rounded MT Bold"/>
              </a:rPr>
              <a:t>17</a:t>
            </a:r>
            <a:r>
              <a:rPr b="1" lang="en-US" sz="3600" spc="-1" strike="noStrike" baseline="60000">
                <a:solidFill>
                  <a:srgbClr val="00cc99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,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4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6095880"/>
            <a:ext cx="4267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3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83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cc99"/>
                </a:solidFill>
                <a:latin typeface="Arial Rounded MT Bold"/>
              </a:rPr>
              <a:t>17</a:t>
            </a:r>
            <a:r>
              <a:rPr b="1" lang="en-US" sz="3600" spc="-1" strike="noStrike" baseline="60000">
                <a:solidFill>
                  <a:srgbClr val="00cc99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,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4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5257800"/>
            <a:ext cx="365760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3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82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cc99"/>
                </a:solidFill>
                <a:latin typeface="Arial Rounded MT Bold"/>
              </a:rPr>
              <a:t>77</a:t>
            </a:r>
            <a:r>
              <a:rPr b="1" lang="en-US" sz="3600" spc="-1" strike="noStrike" baseline="60000">
                <a:solidFill>
                  <a:srgbClr val="00cc99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,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4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6934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7696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6934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6120" y="6934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134720" y="502920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71500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8380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+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8380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+++++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426708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50"/>
                            </p:stCondLst>
                            <p:childTnLst>
                              <p:par>
                                <p:cTn id="50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950"/>
                            </p:stCondLst>
                            <p:childTnLst>
                              <p:par>
                                <p:cTn id="5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975"/>
                            </p:stCondLst>
                            <p:childTnLst>
                              <p:par>
                                <p:cTn id="5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475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975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475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83808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SOTTR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676520"/>
            <a:ext cx="39621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04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39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cc66"/>
                </a:solidFill>
                <a:latin typeface="Arial Rounded MT Bold"/>
              </a:rPr>
              <a:t>28</a:t>
            </a:r>
            <a:r>
              <a:rPr b="1" lang="en-US" sz="36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4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438280"/>
            <a:ext cx="38098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02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25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 baseline="60000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cc66"/>
                </a:solidFill>
                <a:latin typeface="Arial Rounded MT Bold"/>
              </a:rPr>
              <a:t>04</a:t>
            </a:r>
            <a:r>
              <a:rPr b="1" lang="en-US" sz="36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3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1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20040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429000"/>
            <a:ext cx="37335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</a:rPr>
              <a:t>0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14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00cc66"/>
                </a:solidFill>
                <a:latin typeface="Arial Rounded MT Bold"/>
              </a:rPr>
              <a:t>24</a:t>
            </a:r>
            <a:r>
              <a:rPr b="1" lang="en-US" sz="36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4</a:t>
            </a:r>
            <a:r>
              <a:rPr b="1" lang="en-US" sz="3600" spc="-1" strike="noStrike">
                <a:solidFill>
                  <a:srgbClr val="0099ff"/>
                </a:solidFill>
                <a:latin typeface="Arial Rounded MT Bold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4724280"/>
            <a:ext cx="3352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6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08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14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6</a:t>
            </a:r>
            <a:r>
              <a:rPr b="1" lang="en-US" sz="2800" spc="-1" strike="noStrike">
                <a:solidFill>
                  <a:srgbClr val="0099ff"/>
                </a:solidFill>
                <a:latin typeface="Arial Rounded MT Bold"/>
              </a:rPr>
              <a:t>9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5410080"/>
            <a:ext cx="3429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5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34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7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r>
              <a:rPr b="1" lang="en-US" sz="2800" spc="-1" strike="noStrike">
                <a:solidFill>
                  <a:srgbClr val="0099ff"/>
                </a:solidFill>
                <a:latin typeface="Arial Rounded MT Bold"/>
              </a:rPr>
              <a:t>8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724280"/>
            <a:ext cx="3353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6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08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13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169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9920" y="6629400"/>
            <a:ext cx="365760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 Rounded MT Bold"/>
              </a:rPr>
              <a:t>33</a:t>
            </a:r>
            <a:r>
              <a:rPr b="1" lang="en-US" sz="4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4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4800" spc="-1" strike="noStrike">
                <a:solidFill>
                  <a:srgbClr val="00cc99"/>
                </a:solidFill>
                <a:latin typeface="Arial Rounded MT Bold"/>
              </a:rPr>
              <a:t>26</a:t>
            </a:r>
            <a:r>
              <a:rPr b="1" lang="en-US" sz="4800" spc="-1" strike="noStrike" baseline="60000">
                <a:solidFill>
                  <a:srgbClr val="00cc99"/>
                </a:solidFill>
                <a:latin typeface="Arial Rounded MT Bold"/>
              </a:rPr>
              <a:t>,,</a:t>
            </a:r>
            <a:r>
              <a:rPr b="1" lang="en-US" sz="4800" spc="-1" strike="noStrike">
                <a:solidFill>
                  <a:srgbClr val="000000"/>
                </a:solidFill>
                <a:latin typeface="Arial Rounded MT Bold"/>
              </a:rPr>
              <a:t> ,</a:t>
            </a:r>
            <a:r>
              <a:rPr b="1" lang="en-US" sz="4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9</a:t>
            </a:r>
            <a:r>
              <a:rPr b="1" lang="en-US" sz="4800" spc="-1" strike="noStrike">
                <a:solidFill>
                  <a:srgbClr val="0099ff"/>
                </a:solidFill>
                <a:latin typeface="Arial Rounded MT Bold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5410080"/>
            <a:ext cx="3429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5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34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7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r>
              <a:rPr b="1" lang="en-US" sz="2800" spc="-1" strike="noStrike">
                <a:solidFill>
                  <a:srgbClr val="0099ff"/>
                </a:solidFill>
                <a:latin typeface="Arial Rounded MT Bold"/>
              </a:rPr>
              <a:t>8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7480" y="4724280"/>
            <a:ext cx="3353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6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07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73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169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5410080"/>
            <a:ext cx="3429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5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34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7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r>
              <a:rPr b="1" lang="en-US" sz="2800" spc="-1" strike="noStrike">
                <a:solidFill>
                  <a:srgbClr val="0099ff"/>
                </a:solidFill>
                <a:latin typeface="Arial Rounded MT Bold"/>
              </a:rPr>
              <a:t>8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095880"/>
            <a:ext cx="11315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6400800"/>
            <a:ext cx="3353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5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67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73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169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7162920"/>
            <a:ext cx="3429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5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34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7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7</a:t>
            </a:r>
            <a:r>
              <a:rPr b="1" lang="en-US" sz="2800" spc="-1" strike="noStrike">
                <a:solidFill>
                  <a:srgbClr val="0099ff"/>
                </a:solidFill>
                <a:latin typeface="Arial Rounded MT Bold"/>
              </a:rPr>
              <a:t>8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343400"/>
            <a:ext cx="113158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0120" y="1676520"/>
          <a:ext cx="3047760" cy="25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1676520"/>
                    <a:ext cx="3047760" cy="25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914400" y="68580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- - - - -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24680" y="7621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- - - - -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7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7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50"/>
                            </p:stCondLst>
                            <p:childTnLst>
                              <p:par>
                                <p:cTn id="62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950"/>
                            </p:stCondLst>
                            <p:childTnLst>
                              <p:par>
                                <p:cTn id="6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7" dur="75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8380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MOLTIPLIC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2147760"/>
            <a:ext cx="3352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3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22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</a:t>
            </a:r>
            <a:r>
              <a:rPr b="1" lang="en-US" sz="2800" spc="-1" strike="noStrike">
                <a:solidFill>
                  <a:srgbClr val="00cc99"/>
                </a:solidFill>
                <a:latin typeface="Arial Rounded MT Bold"/>
              </a:rPr>
              <a:t>1</a:t>
            </a:r>
            <a:r>
              <a:rPr b="1" lang="en-US" sz="28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76 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971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4  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35053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3733920"/>
            <a:ext cx="3353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12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88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cc66"/>
                </a:solidFill>
                <a:latin typeface="Arial Rounded MT Bold"/>
              </a:rPr>
              <a:t>164</a:t>
            </a:r>
            <a:r>
              <a:rPr b="1" lang="en-US" sz="28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304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45720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5791320"/>
            <a:ext cx="3353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13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30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cc66"/>
                </a:solidFill>
                <a:latin typeface="Arial Rounded MT Bold"/>
              </a:rPr>
              <a:t>47</a:t>
            </a:r>
            <a:r>
              <a:rPr b="1" lang="en-US" sz="2800" spc="-1" strike="noStrike" baseline="60000">
                <a:solidFill>
                  <a:srgbClr val="00cc66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04</a:t>
            </a:r>
            <a:r>
              <a:rPr b="1" lang="en-US" sz="2800" spc="-1" strike="noStrike">
                <a:solidFill>
                  <a:srgbClr val="3366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3124080"/>
            <a:ext cx="5029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22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x     60  =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   </a:t>
            </a:r>
            <a:r>
              <a:rPr b="1" lang="en-US" sz="2800" spc="-1" strike="noStrike">
                <a:solidFill>
                  <a:srgbClr val="339933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1320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 ,,           </a:t>
            </a:r>
            <a:r>
              <a:rPr b="1" lang="en-US" sz="2800" spc="-1" strike="noStrike" baseline="60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915400" y="2133720"/>
            <a:ext cx="1905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1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76 +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4876920"/>
            <a:ext cx="2133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53280" y="5181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12 161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76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067680" y="60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4     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8077320" y="6781320"/>
            <a:ext cx="22860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05920" y="70866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8647 , </a:t>
            </a:r>
            <a:r>
              <a:rPr b="1" lang="en-US" sz="2800" spc="-1" strike="noStrike">
                <a:solidFill>
                  <a:srgbClr val="ff00ff"/>
                </a:solidFill>
                <a:latin typeface="Arial Rounded MT Bold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38680" y="4038480"/>
            <a:ext cx="5334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03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x  3600  =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 10 800 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 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=</a:t>
            </a: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21337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6705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Metodo  dir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8380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x x x x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1880" y="8524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x x x x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5562720"/>
            <a:ext cx="2210040" cy="17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Metodo indir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ri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ai seco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75"/>
                            </p:stCondLst>
                            <p:childTnLst>
                              <p:par>
                                <p:cTn id="74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875"/>
                            </p:stCondLst>
                            <p:childTnLst>
                              <p:par>
                                <p:cTn id="7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500"/>
                            </p:stCondLst>
                            <p:childTnLst>
                              <p:par>
                                <p:cTn id="84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60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33520"/>
            <a:ext cx="1131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8380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Arial Rounded MT Bold"/>
              </a:rPr>
              <a:t>MOLTIPLIC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24382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 8 6 4 7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25146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438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3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200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3581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Rounded MT Bold"/>
              </a:rPr>
              <a:t>13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32004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1 2 6 4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42670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1 8 4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3962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25146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001000" y="32004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00800" y="2514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1 8 4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29600" y="2514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05720" y="3429000"/>
            <a:ext cx="1066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 Rounded MT Bold"/>
              </a:rPr>
              <a:t>4 7 </a:t>
            </a:r>
            <a:r>
              <a:rPr b="1" lang="en-US" sz="2800" spc="-1" strike="noStrike" baseline="60000">
                <a:solidFill>
                  <a:srgbClr val="33cc33"/>
                </a:solidFill>
                <a:latin typeface="Arial Rounded MT Bold"/>
              </a:rPr>
              <a:t>,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53280" y="3429000"/>
            <a:ext cx="838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30 </a:t>
            </a:r>
            <a:r>
              <a:rPr b="1" lang="en-US" sz="28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715000"/>
            <a:ext cx="40388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13</a:t>
            </a:r>
            <a:r>
              <a:rPr b="1" lang="en-US" sz="3600" spc="-1" strike="noStrike" baseline="30000">
                <a:solidFill>
                  <a:srgbClr val="ff3300"/>
                </a:solidFill>
                <a:latin typeface="Arial Rounded MT Bold"/>
              </a:rPr>
              <a:t>h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33cc"/>
                </a:solidFill>
                <a:latin typeface="Arial Rounded MT Bold"/>
              </a:rPr>
              <a:t>30 </a:t>
            </a:r>
            <a:r>
              <a:rPr b="1" lang="en-US" sz="3600" spc="-1" strike="noStrike" baseline="60000">
                <a:solidFill>
                  <a:srgbClr val="3333cc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 </a:t>
            </a:r>
            <a:r>
              <a:rPr b="1" lang="en-US" sz="3600" spc="-1" strike="noStrike">
                <a:solidFill>
                  <a:srgbClr val="33cc33"/>
                </a:solidFill>
                <a:latin typeface="Arial Rounded MT Bold"/>
              </a:rPr>
              <a:t>47</a:t>
            </a:r>
            <a:r>
              <a:rPr b="1" lang="en-US" sz="3600" spc="-1" strike="noStrike" baseline="60000">
                <a:solidFill>
                  <a:srgbClr val="33cc33"/>
                </a:solidFill>
                <a:latin typeface="Arial Rounded MT Bold"/>
              </a:rPr>
              <a:t> ,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00ff"/>
                </a:solidFill>
                <a:latin typeface="Arial Rounded MT Bold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8380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x x x x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8524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Arial Rounded MT Bold"/>
              </a:rPr>
              <a:t>x x x x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5715000"/>
            <a:ext cx="2209680" cy="17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Metodo indir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ri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Rounded MT Bold"/>
              </a:rPr>
              <a:t>ai seco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11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.S.D.  CRONOMETRISTI     ROM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cal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7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7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375"/>
                            </p:stCondLst>
                            <p:childTnLst>
                              <p:par>
                                <p:cTn id="85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875"/>
                            </p:stCondLst>
                            <p:childTnLst>
                              <p:par>
                                <p:cTn id="86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7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000"/>
                            </p:stCondLst>
                            <p:childTnLst>
                              <p:par>
                                <p:cTn id="8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2000"/>
                            </p:stCondLst>
                            <p:childTnLst>
                              <p:par>
                                <p:cTn id="92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975"/>
                            </p:stCondLst>
                            <p:childTnLst>
                              <p:par>
                                <p:cTn id="9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6T23:13:32Z</dcterms:created>
  <dc:creator>De Angelis Giorgio</dc:creator>
  <dc:description/>
  <dc:language>en-US</dc:language>
  <cp:lastModifiedBy>Giorgio De Angelis</cp:lastModifiedBy>
  <dcterms:modified xsi:type="dcterms:W3CDTF">2007-10-24T12:48:01Z</dcterms:modified>
  <cp:revision>26</cp:revision>
  <dc:subject/>
  <dc:title>Nessun titolo diapositiva</dc:title>
</cp:coreProperties>
</file>